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77D-AA05-426B-B75F-EA84DE97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5AE-7343-4B65-9532-80C1C04F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72B10-5A6C-4A33-A291-8B84AF0D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6C64B-00FF-476E-9255-5E82726C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EC7FB-32FA-4F84-B394-20EA504E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BE9CF-CFF7-4328-A4A0-4BFCDB05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09312-505E-46DD-808F-7814C08F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D53F2-8627-4170-8C7E-542B99C6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3A783-B44E-4142-8B4D-A02911B7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93B8A-43A7-4FB0-951A-15845C1E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E3EB5-B8F6-44F1-9A83-87EB445D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E4EB1-AC1F-4E28-AE24-B7752483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B13-CEEB-47A4-99E3-204A8AF7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1192F-A4C1-4353-85B6-126316FF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F33E9-3529-41F0-ADF3-BCE67F22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2544F-355A-4511-B27E-F54798FD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98F7B-5A14-453C-B430-9AEDB55B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43ABA-045F-4A80-A778-E93CE7CF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F2F28-9E89-4CCD-BAD5-81D33774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EE436-9480-426E-8D3E-E2BFFEAC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7556C-C72A-4F51-8C60-374667D2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5B176-DFE6-45F6-AB6A-677E7FD5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1C18D-F8E3-4EC2-BBBC-D67CEB2F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27D-D627-46F0-A918-2BC37783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7DFCC-DB52-4B38-A267-46F8A3C6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7156-8360-4794-B7FE-35874C2E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64A3-AE1B-4C02-A087-B91DAE3E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0037-0ACC-49F4-A539-D46A45F3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1A19-465C-4B6F-8919-2B532859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A2D4-C893-4875-B0A8-314633D1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A9E5-CD2E-458E-874F-1F10C2D8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045F-99A2-4F9C-825C-0D34F448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6BE-DD53-4A90-AF05-B1664A5D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D549-6C80-4D5E-8BCE-76FA2E21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69C0-64CC-4D6F-A2E8-6A5A2385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F1AF-B4F3-4D2B-B42F-4F952A7B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F751-25CE-4616-9772-DC292A2D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9BAB-B4EB-4F2C-96E3-F5E1A9C9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E9D9F-9893-484B-A9FF-53FCDD25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8487-4FBB-40BB-B767-1DA9027E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A057-4BEB-4E4A-84B4-5CC2F45E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FE6C0-80FD-4AD4-B041-3B9E336C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94528-3B0D-464C-ADF0-DD69C7D7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65D-1E55-4D92-B997-C38D1EB6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81FB7-380B-4970-A991-1FF2D1FD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4D166-3EF9-4219-A2F3-6A0DD613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26D9-47FF-459E-9D30-E123BFEF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02B7-B934-460E-8F9E-C2AFC43F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EA32B-0137-4AB5-969C-46CF0D32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84BD1-F16D-465F-AAA0-0E132D5E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ABC7-0573-4581-9194-BB2FC482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E0A7A-CDD4-444F-96D2-B175877F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35D80-1326-4920-A678-EC9A73DF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ACF9B-A289-4863-BFB2-88DBBFC4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A31-E833-41C7-8C8D-72EADDC4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C64DA-3CA1-43FB-AF23-67D4CCBD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2561E-01F1-42B1-A731-88FF4BFA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2D164-E572-4DAD-99A6-0E800506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B39A4-CE6C-46DE-BE5D-66E9713B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927D7-9C6D-41DD-AD87-D1E104D7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B4188-0934-4C13-86A7-4A8E0E03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E7B0E-6339-4F67-ABDF-0E4F50FE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98D2E-B1EC-408A-BE2A-18468CDD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97130-A704-4BCF-8B8F-31E59DC0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C7227-A983-4D70-88BC-A98AB925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443-B4BE-4B32-A207-59EC8367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AB0A0-BBC8-42F1-BA2F-078E88B6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FBEA9-9396-4A47-99CA-89DC6D1B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4FC66-277C-422B-9E5F-E9ED2507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50C0E-85DE-42F8-890E-55E8F427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894CD-5A7E-411A-99A6-7E312DF6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DBB82-042D-4B2D-A100-347E37F4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630BA-7B22-4AA2-B9E2-542807D7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779C5-6A70-4D32-AB69-8D709B13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82793-CB92-47D3-A669-7546A452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C95C5-6371-4836-875C-462A9F77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822-F7B9-4FA4-8744-B08762EF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05528-840B-40DF-BDA0-459A97C1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B963E-0070-447F-BC27-10341B7D525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CCF98-F2F4-41AB-BC33-1B8A7C3383A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22E2E6-B88A-4686-8D4E-B7F406ED375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BE58EB-1FCD-4EFC-B78F-7D504C6B56A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44E58-C683-4CB5-B68A-81074A4F08B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AEC5BA-7B6E-4E82-9016-8E6EF5C4B51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4E232F-AD47-4FD6-B80C-EF806E620B2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06683-B0C5-4F44-90A4-DB00AF9EE3E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2FEED0-58C7-4D2F-B293-D0638A37B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4B5-94E0-43D2-B55D-51E62C54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E5073-71E9-4A33-BA57-6D626FF381B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96CF06-355F-4108-ACD1-376242570AA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800716-4E6F-478E-B26C-8A39D89D735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77DDA8-77A0-4BB3-8A56-6CE36E84DD2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135583-991D-4C0C-BAA7-366E9E6A0AE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4B5B5A-1063-42A8-A580-8928CBF561D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3A1B30-8B18-4AF7-B63E-EC7291F75CF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ED125B-563C-4288-98D6-FFEE41B973A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FC9D89-EA4B-4839-B9B5-89001C2F84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6453EE-7C07-4168-8B67-CEE1CCAA8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47D-4FD4-41FB-AF2C-DAECF5D0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B054AC-6A0D-4CDF-BE4E-A9D33061D8F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311A30-892C-4C87-AA71-CDB726BD2F3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74F146-4F17-4BFF-9E39-5FF82569057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D03132-B5CF-4007-A23C-9C615581A70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2CBD49-D322-4FD3-A40E-D2B0EF40B8F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E4A4E2-A487-4A07-BD66-A07B769C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42CDB0-3A51-4458-86CB-794AEA11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F2B878-8524-4CEC-BEA1-28639DFC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8CFD8D-26F8-46CC-A303-D16AB651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4CA2B4-D592-44E3-956B-D7B4FE59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CC7-F20A-4704-BE0E-42988A9E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FA6EEF-DD9B-4F5E-A192-B0628A7E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D9D9CB-5FB7-42D4-A308-5A96B83F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3BF1D0-E026-448C-9E59-CE90C358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98509D-FD36-4E89-9A46-603D98BF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A0633C-6632-4689-8235-6DBEA1A4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3A88D1-A3E8-47F4-ADC9-58D518AF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3D9860-0E03-49A5-A852-AECA571F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88659-1A9C-494F-B244-AB5421EA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BEAEB-99A9-4346-BC27-B490AD4F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66AE8-CF82-4923-809C-BB5792FF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F4BA118-7070-4593-BB74-644587C6CD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CEBFA3C-26D5-409A-BEAE-8FDBC9779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4C7B2D5-5341-44DF-AD81-FFB91B1363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3857F50-1358-402E-B366-DC823149FF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97627B9-4AF5-47E3-8D69-203F801878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C4D305F-B18E-4BC2-8B90-182C445947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DF1F211-5A96-4639-8E52-9B9F1D7B34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089B300-02A8-43C8-8D01-01AE7E1C1C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Consumer Choice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5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428E5A43-29FE-48EB-9150-06CED0AB8C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table, which shows Michelle’s utility for milksh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898560" y="2254320"/>
          <a:ext cx="7288200" cy="3932280"/>
        </p:xfrm>
        <a:graphic>
          <a:graphicData uri="http://schemas.openxmlformats.org/drawingml/2006/table">
            <a:tbl>
              <a:tblPr/>
              <a:tblGrid>
                <a:gridCol w="2438280"/>
                <a:gridCol w="2156040"/>
                <a:gridCol w="269388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 (T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 (M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1F391154-5D3B-491B-AFAA-D13141544A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table, which shows Michelle’s utility for milksh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4"/>
          <p:cNvSpPr/>
          <p:nvPr/>
        </p:nvSpPr>
        <p:spPr>
          <a:xfrm>
            <a:off x="6611040" y="299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898560" y="2254320"/>
          <a:ext cx="7288200" cy="3932280"/>
        </p:xfrm>
        <a:graphic>
          <a:graphicData uri="http://schemas.openxmlformats.org/drawingml/2006/table">
            <a:tbl>
              <a:tblPr/>
              <a:tblGrid>
                <a:gridCol w="2438280"/>
                <a:gridCol w="2156040"/>
                <a:gridCol w="269388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 (T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 (M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Box 8"/>
          <p:cNvSpPr/>
          <p:nvPr/>
        </p:nvSpPr>
        <p:spPr>
          <a:xfrm>
            <a:off x="6593040" y="3384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0"/>
          <p:cNvSpPr/>
          <p:nvPr/>
        </p:nvSpPr>
        <p:spPr>
          <a:xfrm>
            <a:off x="4162320" y="377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11"/>
          <p:cNvSpPr/>
          <p:nvPr/>
        </p:nvSpPr>
        <p:spPr>
          <a:xfrm>
            <a:off x="4176720" y="418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13"/>
          <p:cNvSpPr/>
          <p:nvPr/>
        </p:nvSpPr>
        <p:spPr>
          <a:xfrm>
            <a:off x="66636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6646320" y="495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Box 16"/>
          <p:cNvSpPr/>
          <p:nvPr/>
        </p:nvSpPr>
        <p:spPr>
          <a:xfrm>
            <a:off x="4176720" y="535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7"/>
          <p:cNvSpPr/>
          <p:nvPr/>
        </p:nvSpPr>
        <p:spPr>
          <a:xfrm>
            <a:off x="4168800" y="574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Optimal Purchasing R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58880"/>
            <a:ext cx="82296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rational consumer should purchase the product that yields the greatest marginal utility per dol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73C7222D-E4F5-47AB-9BF6-1086C13EAA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9"/>
          <p:cNvGrpSpPr/>
          <p:nvPr/>
        </p:nvGrpSpPr>
        <p:grpSpPr>
          <a:xfrm>
            <a:off x="2487600" y="2881440"/>
            <a:ext cx="4125960" cy="1074600"/>
            <a:chOff x="2487600" y="2881440"/>
            <a:chExt cx="4125960" cy="1074600"/>
          </a:xfrm>
        </p:grpSpPr>
        <p:sp>
          <p:nvSpPr>
            <p:cNvPr id="499" name="Rounded Rectangle 8"/>
            <p:cNvSpPr/>
            <p:nvPr/>
          </p:nvSpPr>
          <p:spPr>
            <a:xfrm>
              <a:off x="2487600" y="2881440"/>
              <a:ext cx="4125960" cy="107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1"/>
            <a:stretch/>
          </p:blipFill>
          <p:spPr>
            <a:xfrm>
              <a:off x="2944800" y="2987640"/>
              <a:ext cx="3268440" cy="90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2158920" y="4379760"/>
            <a:ext cx="4891320" cy="17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Optimal Purchasing R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807920"/>
            <a:ext cx="822960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order to maximize utility, a consumer should spend her budget so that $MU spent on all products is equ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8B7B2CC-D9F3-47C3-88A8-27C5F3966D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14"/>
          <p:cNvGrpSpPr/>
          <p:nvPr/>
        </p:nvGrpSpPr>
        <p:grpSpPr>
          <a:xfrm>
            <a:off x="2541600" y="3530520"/>
            <a:ext cx="4124160" cy="1073160"/>
            <a:chOff x="2541600" y="3530520"/>
            <a:chExt cx="4124160" cy="1073160"/>
          </a:xfrm>
        </p:grpSpPr>
        <p:sp>
          <p:nvSpPr>
            <p:cNvPr id="512" name="Rounded Rectangle 8"/>
            <p:cNvSpPr/>
            <p:nvPr/>
          </p:nvSpPr>
          <p:spPr>
            <a:xfrm>
              <a:off x="2541600" y="3530520"/>
              <a:ext cx="4124160" cy="107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1"/>
            <a:stretch/>
          </p:blipFill>
          <p:spPr>
            <a:xfrm>
              <a:off x="2690280" y="3636720"/>
              <a:ext cx="3848040" cy="89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5AC3F6B6-8B52-47BA-959B-8BC994F380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903240" y="317520"/>
          <a:ext cx="7326360" cy="2468520"/>
        </p:xfrm>
        <a:graphic>
          <a:graphicData uri="http://schemas.openxmlformats.org/drawingml/2006/table">
            <a:tbl>
              <a:tblPr/>
              <a:tblGrid>
                <a:gridCol w="1022400"/>
                <a:gridCol w="1100160"/>
                <a:gridCol w="1643040"/>
                <a:gridCol w="1057320"/>
                <a:gridCol w="901800"/>
                <a:gridCol w="1601640"/>
              </a:tblGrid>
              <a:tr h="26820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ECES OF PA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 per $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ice = $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 per $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ice = $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914400" y="3013200"/>
          <a:ext cx="7315200" cy="3344760"/>
        </p:xfrm>
        <a:graphic>
          <a:graphicData uri="http://schemas.openxmlformats.org/drawingml/2006/table">
            <a:tbl>
              <a:tblPr/>
              <a:tblGrid>
                <a:gridCol w="1422360"/>
                <a:gridCol w="1117800"/>
                <a:gridCol w="1109520"/>
                <a:gridCol w="1319040"/>
                <a:gridCol w="1263960"/>
                <a:gridCol w="1082520"/>
              </a:tblGrid>
              <a:tr h="56592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c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$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f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x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8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2" name="Oval 15"/>
          <p:cNvSpPr/>
          <p:nvPr/>
        </p:nvSpPr>
        <p:spPr>
          <a:xfrm>
            <a:off x="7145280" y="11383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16"/>
          <p:cNvSpPr/>
          <p:nvPr/>
        </p:nvSpPr>
        <p:spPr>
          <a:xfrm>
            <a:off x="3565440" y="113040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17"/>
          <p:cNvSpPr/>
          <p:nvPr/>
        </p:nvSpPr>
        <p:spPr>
          <a:xfrm>
            <a:off x="7151760" y="1400040"/>
            <a:ext cx="563400" cy="30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18"/>
          <p:cNvSpPr/>
          <p:nvPr/>
        </p:nvSpPr>
        <p:spPr>
          <a:xfrm>
            <a:off x="3568680" y="1400040"/>
            <a:ext cx="563760" cy="30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19"/>
          <p:cNvSpPr/>
          <p:nvPr/>
        </p:nvSpPr>
        <p:spPr>
          <a:xfrm>
            <a:off x="7142040" y="16765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20"/>
          <p:cNvSpPr/>
          <p:nvPr/>
        </p:nvSpPr>
        <p:spPr>
          <a:xfrm>
            <a:off x="3557520" y="16765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21"/>
          <p:cNvSpPr/>
          <p:nvPr/>
        </p:nvSpPr>
        <p:spPr>
          <a:xfrm>
            <a:off x="3568680" y="195264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2"/>
          <p:cNvSpPr/>
          <p:nvPr/>
        </p:nvSpPr>
        <p:spPr>
          <a:xfrm>
            <a:off x="903240" y="358308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23"/>
          <p:cNvSpPr/>
          <p:nvPr/>
        </p:nvSpPr>
        <p:spPr>
          <a:xfrm>
            <a:off x="932040" y="386712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4"/>
          <p:cNvSpPr/>
          <p:nvPr/>
        </p:nvSpPr>
        <p:spPr>
          <a:xfrm>
            <a:off x="915840" y="4130640"/>
            <a:ext cx="7315200" cy="5684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25"/>
          <p:cNvSpPr/>
          <p:nvPr/>
        </p:nvSpPr>
        <p:spPr>
          <a:xfrm>
            <a:off x="912960" y="4684680"/>
            <a:ext cx="7315200" cy="5666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26"/>
          <p:cNvSpPr/>
          <p:nvPr/>
        </p:nvSpPr>
        <p:spPr>
          <a:xfrm>
            <a:off x="903240" y="5245200"/>
            <a:ext cx="7315200" cy="5666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7"/>
          <p:cNvSpPr/>
          <p:nvPr/>
        </p:nvSpPr>
        <p:spPr>
          <a:xfrm>
            <a:off x="930240" y="579924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8"/>
          <p:cNvSpPr/>
          <p:nvPr/>
        </p:nvSpPr>
        <p:spPr>
          <a:xfrm>
            <a:off x="912960" y="6076800"/>
            <a:ext cx="7315200" cy="27648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B2C89FA-0E28-4B71-8471-A8B98891D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following marginal utilities and prices, which product would a rational consumer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914400" y="2541600"/>
          <a:ext cx="7358040" cy="1467000"/>
        </p:xfrm>
        <a:graphic>
          <a:graphicData uri="http://schemas.openxmlformats.org/drawingml/2006/table">
            <a:tbl>
              <a:tblPr/>
              <a:tblGrid>
                <a:gridCol w="2271600"/>
                <a:gridCol w="1271880"/>
                <a:gridCol w="1298520"/>
                <a:gridCol w="1217520"/>
                <a:gridCol w="1298520"/>
              </a:tblGrid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e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AA571BD6-2BEA-4E65-86FD-791365556D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following marginal utilities and prices, which product would a rational consumer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914400" y="2541600"/>
          <a:ext cx="7358040" cy="1467000"/>
        </p:xfrm>
        <a:graphic>
          <a:graphicData uri="http://schemas.openxmlformats.org/drawingml/2006/table">
            <a:tbl>
              <a:tblPr/>
              <a:tblGrid>
                <a:gridCol w="2271600"/>
                <a:gridCol w="1271880"/>
                <a:gridCol w="1298520"/>
                <a:gridCol w="1217520"/>
                <a:gridCol w="1298520"/>
              </a:tblGrid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e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Rectangle 1"/>
          <p:cNvSpPr/>
          <p:nvPr/>
        </p:nvSpPr>
        <p:spPr>
          <a:xfrm>
            <a:off x="606600" y="409392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A rational consumer would choose an apple because it has the highest MU per $ as seen here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Apple   Beer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Ice Cream   Hot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MU/Pric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8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7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   7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Theor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sights into Consumer Behaviour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s with low income elasticities (water, food) have the highest initial marginal utilities, will be purchased fir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ule applies only to the purchasing of the product, not to its repeated “consumption”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 compare utilities between peop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A45CA128-C3E3-406E-BBDD-90BD5855C7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and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09840"/>
            <a:ext cx="822960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kio’s Dollar Marginal Util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mand Curve, Deriv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110E0E70-0152-4A60-B199-DBB0A61591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851040" y="2178000"/>
          <a:ext cx="3571560" cy="2743200"/>
        </p:xfrm>
        <a:graphic>
          <a:graphicData uri="http://schemas.openxmlformats.org/drawingml/2006/table">
            <a:tbl>
              <a:tblPr/>
              <a:tblGrid>
                <a:gridCol w="2336760"/>
                <a:gridCol w="123480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nsu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5207040" y="2154240"/>
          <a:ext cx="2651040" cy="3657600"/>
        </p:xfrm>
        <a:graphic>
          <a:graphicData uri="http://schemas.openxmlformats.org/drawingml/2006/table">
            <a:tbl>
              <a:tblPr/>
              <a:tblGrid>
                <a:gridCol w="1285920"/>
                <a:gridCol w="13651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and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CD8382A-11D6-40C4-85B0-DFF79922C3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2" descr="C:\Users\aholowinsky\Documents\McGrawHill\Sayre Micro Image Bank\Ch5\Fig5_2.bmp"/>
          <p:cNvPicPr/>
          <p:nvPr/>
        </p:nvPicPr>
        <p:blipFill>
          <a:blip r:embed="rId1"/>
          <a:stretch/>
        </p:blipFill>
        <p:spPr>
          <a:xfrm>
            <a:off x="0" y="1757520"/>
            <a:ext cx="9144000" cy="389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Consumer Choice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Explain the law of diminishing marginal utilit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Derive a consumers’ purchasing rule which ensures that satisfaction is maximize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Explain how marginal utility theory is applicable to real-world exampl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Provide a theoretical rationale for downward sloping demand curve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4F60C63-CD29-41FA-A513-CA9645A8D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amond Water Paradox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y is water (which has a very high value in use) inexpensive, while diamonds (which have a low value in use) expensive?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 in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reflected i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tal util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 in exchan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he price) is determined by i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ginal utili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1276F989-4F53-4482-A59D-B95FEA5C9C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difference between what a customer is willing to pay and the actual price of the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562B037D-BF30-492F-A745-587C098E9E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925560" y="2502000"/>
          <a:ext cx="7315200" cy="1708200"/>
        </p:xfrm>
        <a:graphic>
          <a:graphicData uri="http://schemas.openxmlformats.org/drawingml/2006/table">
            <a:tbl>
              <a:tblPr/>
              <a:tblGrid>
                <a:gridCol w="1347840"/>
                <a:gridCol w="987480"/>
                <a:gridCol w="792000"/>
                <a:gridCol w="2303640"/>
                <a:gridCol w="188424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ms of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Consumer Sur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nsumer Sur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Rectangle 8"/>
          <p:cNvSpPr/>
          <p:nvPr/>
        </p:nvSpPr>
        <p:spPr>
          <a:xfrm>
            <a:off x="1351080" y="4626000"/>
            <a:ext cx="64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 consumer surplus (MC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$M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690480" y="5307120"/>
            <a:ext cx="797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nsumer surplu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53BB8127-F7DF-4E81-ADFE-C85AC5FDE7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7" descr="Fig5_3.bmp"/>
          <p:cNvPicPr/>
          <p:nvPr/>
        </p:nvPicPr>
        <p:blipFill>
          <a:blip r:embed="rId1"/>
          <a:stretch/>
        </p:blipFill>
        <p:spPr>
          <a:xfrm>
            <a:off x="0" y="1349280"/>
            <a:ext cx="9005760" cy="3949920"/>
          </a:xfrm>
          <a:prstGeom prst="rect">
            <a:avLst/>
          </a:prstGeom>
          <a:ln w="0">
            <a:noFill/>
          </a:ln>
        </p:spPr>
      </p:pic>
      <p:sp>
        <p:nvSpPr>
          <p:cNvPr id="586" name="TextBox 9"/>
          <p:cNvSpPr/>
          <p:nvPr/>
        </p:nvSpPr>
        <p:spPr>
          <a:xfrm>
            <a:off x="957600" y="5465880"/>
            <a:ext cx="72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surplus = ½ x (32-20) x (60,000-0) = $36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dd up all consumer surpl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8A030B5-0F40-47EF-BFF8-6787F1A807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8" descr="Fig5_4.bmp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364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0CA45E0E-887B-449D-AB6C-24CF8432A7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partial units cannot be bought, what is the marginal consumer surplus for each unit bought, and what is the total consumer surplus if the price is $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2403360" y="2786040"/>
          <a:ext cx="4262400" cy="2093760"/>
        </p:xfrm>
        <a:graphic>
          <a:graphicData uri="http://schemas.openxmlformats.org/drawingml/2006/table">
            <a:tbl>
              <a:tblPr/>
              <a:tblGrid>
                <a:gridCol w="2140200"/>
                <a:gridCol w="212220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43453C81-BBDB-4097-A0DC-AE290CD786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"/>
          <p:cNvSpPr/>
          <p:nvPr/>
        </p:nvSpPr>
        <p:spPr>
          <a:xfrm>
            <a:off x="1351080" y="3772800"/>
            <a:ext cx="6432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Qty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Willing to pay    Actual Price    Marginal Surpl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1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9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8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7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6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otal consumer surplus =  $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413080" y="1254240"/>
          <a:ext cx="4263840" cy="2095560"/>
        </p:xfrm>
        <a:graphic>
          <a:graphicData uri="http://schemas.openxmlformats.org/drawingml/2006/table">
            <a:tbl>
              <a:tblPr/>
              <a:tblGrid>
                <a:gridCol w="2139840"/>
                <a:gridCol w="212400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elling of an identical product at a different price to different custom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 reasons other than differences in the cost of produ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 have different demands for the same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 therefore prepared to pay different pr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F482BC8C-A3E0-49A1-BCC2-26BA3EDA7C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603E8732-634F-47BE-BE5C-615844A852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8" descr="Fig5_5.bmp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63840"/>
            <a:ext cx="8229600" cy="47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actice price discrimination, must: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groups of customers with different demand elasticit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parate them from the other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ure that those obtaining the lower prices cannot resell the produc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ure that the seller has control over the price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39C8E08-E88D-4C04-8912-9B6AC370B1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B21A0F95-459E-4B13-ACF4-8F23BDF040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and for haircuts from seniors differs greatly from that from your other customer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) If you could only charge one price to all customers, which price would give you the greatest sales revenue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) Suppose that you charged a different price for seniors. What prices would you charge each group in order to maximize your sales revenu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052720" y="2093760"/>
          <a:ext cx="5021280" cy="2452680"/>
        </p:xfrm>
        <a:graphic>
          <a:graphicData uri="http://schemas.openxmlformats.org/drawingml/2006/table">
            <a:tbl>
              <a:tblPr/>
              <a:tblGrid>
                <a:gridCol w="1562040"/>
                <a:gridCol w="1673280"/>
                <a:gridCol w="1785960"/>
              </a:tblGrid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Consumer Choice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Understand why consumers generally value a product more than the price they pa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6: Understand why some sellers charge different prices to different consumers for the same product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077E9466-834A-4F75-9427-3EE050184E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B0A7652D-ED8E-40AC-AFE0-CDDE33DC5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If you could only charge one price to all customers, which price would give you the greatest sales revenu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"/>
          <p:cNvSpPr/>
          <p:nvPr/>
        </p:nvSpPr>
        <p:spPr>
          <a:xfrm>
            <a:off x="690480" y="5006520"/>
            <a:ext cx="73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2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, which gives a total sales revenue of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925560" y="1360440"/>
          <a:ext cx="7315200" cy="2743200"/>
        </p:xfrm>
        <a:graphic>
          <a:graphicData uri="http://schemas.openxmlformats.org/drawingml/2006/table">
            <a:tbl>
              <a:tblPr/>
              <a:tblGrid>
                <a:gridCol w="1112760"/>
                <a:gridCol w="1192320"/>
                <a:gridCol w="1193760"/>
                <a:gridCol w="1271520"/>
                <a:gridCol w="1271520"/>
                <a:gridCol w="12733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CBA681E8-6E57-48A6-A013-783E03F0C2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Suppose that you charged a different price for seniors. What prices would you charge each group to maximize your reven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"/>
          <p:cNvSpPr/>
          <p:nvPr/>
        </p:nvSpPr>
        <p:spPr>
          <a:xfrm>
            <a:off x="690480" y="5024160"/>
            <a:ext cx="73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to seniors (total revenue of $160).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8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(or $20) to the other customers (total revenue of $180).  (In total, then, the sales revenue would be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4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925560" y="1360440"/>
          <a:ext cx="7315200" cy="2743200"/>
        </p:xfrm>
        <a:graphic>
          <a:graphicData uri="http://schemas.openxmlformats.org/drawingml/2006/table">
            <a:tbl>
              <a:tblPr/>
              <a:tblGrid>
                <a:gridCol w="1112760"/>
                <a:gridCol w="1192320"/>
                <a:gridCol w="1193760"/>
                <a:gridCol w="1271520"/>
                <a:gridCol w="1271520"/>
                <a:gridCol w="12733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4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C0BCEE34-A1C2-4080-9677-55BCB684BC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arginal utility and total util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umers’ optimal purchasing rule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law of diminishing marginal utility and how it relates to a downward sloping demand cur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umer surplus and how to calculate i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Price discrimination and the conditions requir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ra or additional uni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Util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atisfaction or pleasure derived from the consumption of a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BED8F02-0A85-4EBC-A317-C99376E330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4736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Utilit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mount of additional utility derived from the consumption of an extra unit of a produc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Util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m of the marginal utility from each uni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6173B42A-42F4-440B-AB83-9A6BDF3068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2127240" y="3359160"/>
            <a:ext cx="4805280" cy="1074600"/>
            <a:chOff x="2127240" y="3359160"/>
            <a:chExt cx="4805280" cy="1074600"/>
          </a:xfrm>
        </p:grpSpPr>
        <p:sp>
          <p:nvSpPr>
            <p:cNvPr id="449" name="Rounded Rectangle 8"/>
            <p:cNvSpPr/>
            <p:nvPr/>
          </p:nvSpPr>
          <p:spPr>
            <a:xfrm>
              <a:off x="2127240" y="3359160"/>
              <a:ext cx="4805280" cy="107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0" name="" descr=""/>
            <p:cNvPicPr/>
            <p:nvPr/>
          </p:nvPicPr>
          <p:blipFill>
            <a:blip r:embed="rId1"/>
            <a:stretch/>
          </p:blipFill>
          <p:spPr>
            <a:xfrm>
              <a:off x="2268000" y="3486600"/>
              <a:ext cx="4513680" cy="808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Utility applies when: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nsumer is behaving rationall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nsumer’s objective is maximum satisfa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rchases and consumption take place over a short period of ti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units purchased may sometimes be sets of ite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5D8025B8-BE00-4A75-9E48-12665A4CB6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785600"/>
            <a:ext cx="822960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5.1 Total Marginal Utilit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9C3EC58-869A-4098-AF03-71CB3C082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914400" y="2530440"/>
          <a:ext cx="7294680" cy="3073320"/>
        </p:xfrm>
        <a:graphic>
          <a:graphicData uri="http://schemas.openxmlformats.org/drawingml/2006/table">
            <a:tbl>
              <a:tblPr/>
              <a:tblGrid>
                <a:gridCol w="2195640"/>
                <a:gridCol w="2886120"/>
                <a:gridCol w="2212920"/>
              </a:tblGrid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ginal Utility (M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Utility (T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aw of Diminishing Marginal Utility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mount of additional utility decreases as successive units of a product are consum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6AE5F001-A817-4B54-8257-22726D4D35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C399A469-6C5F-4CA2-8C7A-9879515C4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8" descr="Fig5_1.bmp"/>
          <p:cNvPicPr/>
          <p:nvPr/>
        </p:nvPicPr>
        <p:blipFill>
          <a:blip r:embed="rId1"/>
          <a:stretch/>
        </p:blipFill>
        <p:spPr>
          <a:xfrm>
            <a:off x="0" y="855720"/>
            <a:ext cx="9144000" cy="546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40:41Z</dcterms:modified>
  <cp:revision>277</cp:revision>
  <dc:subject/>
  <dc:title>Slide 1</dc:title>
</cp:coreProperties>
</file>